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  <p:custShowLst>
    <p:custShow name="Internal Conflict" id="0">
      <p:sldLst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1FC3-1465-4B14-8191-C5B549AA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78A6-C554-4546-AF3B-095CFC0E09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3114-9B7A-4F07-BADB-BCF9FB60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F1FA-6032-4FBF-8C85-9F51BA1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ED63-FF35-4D68-8956-2C412603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3CEC-0D17-474A-872C-2D1E1219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82FC-5E9A-44B5-B7D2-5C12FFB2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6863-B919-4F22-829D-7C917DF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C2C9-8DAD-4356-9331-4F15798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361A-0486-4C6B-80DE-B0B62D0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E048-F260-43CE-B593-A954CE7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0E14-EC78-4938-AB5E-78A8CF3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4335-81E3-428B-B673-D738EE2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4A6D-0EE6-4FAB-8977-1EC7116B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C7D4-5548-4EB8-A55B-56AE108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A14-AA48-4985-ADC6-3F1E8AE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DAA-C4F2-45AF-8645-63B8EFB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61F-D77D-4056-9E63-6694319F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AAD7-F87F-4A49-BC0F-3B1F91CD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56D-2EB4-4559-8AD8-6A1EA65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AF79-302B-4CFD-803C-602E02A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F9F4-EFDE-49AB-B674-2192168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2A73-9048-4D1B-8269-6156024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F6CA-539C-4AE2-BCE7-5D65D98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C70B-20C0-46A1-85F8-74D58DA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48A5-5640-4B4F-87B6-9C592A4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504-FA4F-41FE-84CA-019190A0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344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528-4B5F-4DFE-9DA2-AC028C12B4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ly Bidlake-Jamie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1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7">
            <a:hlinkClick r:id="" action="ppaction://hlinkshowjump?jump=nextslide"/>
          </p:cNvPr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2"/>
          <p:cNvSpPr/>
          <p:nvPr/>
        </p:nvSpPr>
        <p:spPr>
          <a:xfrm>
            <a:off x="179280" y="1878120"/>
            <a:ext cx="847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J’s power point on everything you need to know to figure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-co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What is a conjunction?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What’s the difference between a dependent clause and an independent cla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What is a sub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What is a pred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Which punctuation hates conjun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Which punctuation loves conjun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What is a conjunctive adverb?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Which punctuation loves conjunctive adver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120" y="274680"/>
            <a:ext cx="495324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gramma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love story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is over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Heart 4"/>
          <p:cNvSpPr/>
          <p:nvPr/>
        </p:nvSpPr>
        <p:spPr>
          <a:xfrm>
            <a:off x="-36360" y="2282760"/>
            <a:ext cx="3581280" cy="4343400"/>
          </a:xfrm>
          <a:prstGeom prst="pi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,becaus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Heart 5"/>
          <p:cNvSpPr/>
          <p:nvPr/>
        </p:nvSpPr>
        <p:spPr>
          <a:xfrm>
            <a:off x="1295280" y="3745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Heart 6"/>
          <p:cNvSpPr/>
          <p:nvPr/>
        </p:nvSpPr>
        <p:spPr>
          <a:xfrm>
            <a:off x="0" y="2286000"/>
            <a:ext cx="3581280" cy="4191120"/>
          </a:xfrm>
          <a:custGeom>
            <a:avLst/>
            <a:gdLst/>
            <a:ahLst/>
            <a:rect l="l" t="t" r="r" b="b"/>
            <a:pathLst>
              <a:path w="3581400" h="4191000">
                <a:moveTo>
                  <a:pt x="1790700" y="1047750"/>
                </a:moveTo>
                <a:cubicBezTo>
                  <a:pt x="2536825" y="-1397000"/>
                  <a:pt x="5446713" y="1047750"/>
                  <a:pt x="1790700" y="4191000"/>
                </a:cubicBezTo>
                <a:cubicBezTo>
                  <a:pt x="-1865312" y="1047750"/>
                  <a:pt x="1044575" y="-1397000"/>
                  <a:pt x="1790700" y="10477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Heart 7"/>
          <p:cNvSpPr/>
          <p:nvPr/>
        </p:nvSpPr>
        <p:spPr>
          <a:xfrm>
            <a:off x="4843440" y="2373480"/>
            <a:ext cx="4267080" cy="457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 how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Monotype Corsiva"/>
              </a:rPr>
              <a:t>By the end of this lesson, you will be able to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dependent and independent clause, subject, predicate, conjunction, and conjunctive adverb (and yes, you’ll know how to properly use a semi-col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045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mi-colon can be used to join two independent clauses.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What’s a cla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group of words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ho or what it’s about) 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erb or action). An independent clause makes sense on its own, (for example … The game was over.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pendent clause has to borrow some info to make sense, (for example …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the game was o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 You’re waiting for info to know what happened.  You can’t use a semi-colon with dependent cla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-colons can’t be used with a conjunction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feud and shoot guns at each 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It’s a joining word like, “and”, “because” or “but”. You can have two independent clauses with a comma and a conjunction between them. It’s another choice you have as a wri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rn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mi-colo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junctions, but  commas and conjunctions have love affai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… I love cats, but I like dogs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2320" y="-360"/>
            <a:ext cx="87613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eel sorry for the lonely semi-col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loves to flirt with conjunctive adverbs.</a:t>
            </a:r>
            <a:br>
              <a:rPr sz="32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esides joining two independent clauses by itself,  a semi-colon can also be used with a conjunctive adverb between those two independent clauses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04920" y="3733920"/>
            <a:ext cx="830736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join a semi-colon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conjunctive adver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e adverbs are words that join whole clauses to each other and indicate the nature of the connection. Sounds like romance e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Heart 4"/>
          <p:cNvSpPr/>
          <p:nvPr/>
        </p:nvSpPr>
        <p:spPr>
          <a:xfrm>
            <a:off x="1828800" y="4305240"/>
            <a:ext cx="762120" cy="647640"/>
          </a:xfrm>
          <a:custGeom>
            <a:avLst/>
            <a:gdLst/>
            <a:ahLst/>
            <a:rect l="l" t="t" r="r" b="b"/>
            <a:pathLst>
              <a:path w="762000" h="647700">
                <a:moveTo>
                  <a:pt x="381000" y="161925"/>
                </a:moveTo>
                <a:cubicBezTo>
                  <a:pt x="539750" y="-215900"/>
                  <a:pt x="1158875" y="161925"/>
                  <a:pt x="381000" y="647700"/>
                </a:cubicBezTo>
                <a:cubicBezTo>
                  <a:pt x="-396875" y="161925"/>
                  <a:pt x="222250" y="-215900"/>
                  <a:pt x="381000" y="161925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Heart 5"/>
          <p:cNvSpPr/>
          <p:nvPr/>
        </p:nvSpPr>
        <p:spPr>
          <a:xfrm>
            <a:off x="3809880" y="6324480"/>
            <a:ext cx="649440" cy="457200"/>
          </a:xfrm>
          <a:custGeom>
            <a:avLst/>
            <a:gdLst/>
            <a:ahLst/>
            <a:rect l="l" t="t" r="r" b="b"/>
            <a:pathLst>
              <a:path w="649288" h="457200">
                <a:moveTo>
                  <a:pt x="324644" y="114300"/>
                </a:moveTo>
                <a:cubicBezTo>
                  <a:pt x="459912" y="-152400"/>
                  <a:pt x="987459" y="114300"/>
                  <a:pt x="324644" y="457200"/>
                </a:cubicBezTo>
                <a:cubicBezTo>
                  <a:pt x="-338171" y="114300"/>
                  <a:pt x="189376" y="-152400"/>
                  <a:pt x="324644" y="1143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9360" y="260280"/>
            <a:ext cx="87631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ome examples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e adverbs you might u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fore, consequently, moreover, besides, instead, furthermore, hence, nevertheless, other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2c"/>
                </a:solidFill>
                <a:latin typeface="Arial"/>
              </a:rPr>
              <a:t>. We went to Elliott’s house; nevertheless we had a goo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2c"/>
                </a:solidFill>
                <a:latin typeface="Arial"/>
              </a:rPr>
              <a:t>. Ellen took cough syrup; consequently she stopped hacking in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Monotype Corsiva"/>
              </a:rPr>
              <a:t>The semi –colon has 3 main uses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920" y="1066320"/>
            <a:ext cx="882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t joins two main clauses when there is no conj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For example…My mother is Korean; my father is Ger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t joins 2 independent clauses when a </a:t>
            </a:r>
            <a:r>
              <a:rPr b="0" lang="en-US" sz="2800" spc="-1" strike="noStrike">
                <a:solidFill>
                  <a:srgbClr val="161616"/>
                </a:solidFill>
                <a:latin typeface="Arial"/>
              </a:rPr>
              <a:t>conjunctive adverb </a:t>
            </a: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s used between the cla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For example… You are ill; therefore you should stay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For clearer separation,  the semi-colon is used to separate complicated unrelated item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…We had visitors from: Goderich, Ontario; Gull Bay, Newfoundland; Winston, Quebec;  and Seoul, South Ko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123720" y="617076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5867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 flipV="1" rot="10800000">
            <a:off x="-360" y="23400"/>
            <a:ext cx="9775800" cy="62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ide where semi-colons, commas and periods belong in the following writing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e study therefore we make good marks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(How else could you write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 love Italian food Lasagna is my favorite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(How else could you write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I have several vehicles: a Ford Must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evrolet Camaro a Lincoln Zephyr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illac Escalade and a Mercedes-Benz S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Road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hich clauses do you need to use a semi-colon or a semi-colon and a conjunctive adverb, or a comma and a conjunction, or a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that l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;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; consequently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, and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.  We bought 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5:14:43Z</dcterms:created>
  <dc:creator>ED18</dc:creator>
  <dc:description/>
  <dc:language>en-US</dc:language>
  <cp:lastModifiedBy>Bidlake-Jamieson, Kelly     (ASD-W)</cp:lastModifiedBy>
  <dcterms:modified xsi:type="dcterms:W3CDTF">2017-01-17T18:37:28Z</dcterms:modified>
  <cp:revision>25</cp:revision>
  <dc:subject/>
  <dc:title>PowerPoint Presentation</dc:title>
</cp:coreProperties>
</file>